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DF05-8503-4B9E-8511-283B217571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791-CA92-439D-AF01-64EA0C68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E6E9-B62B-42A0-83DE-0745E98E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A146-C42D-4362-9C1C-CBF25CF5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6403-4066-4E4F-BA94-AFFD3B24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007-AEEA-40D9-8AAE-FCE44158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F426-F9CD-49C0-ABF6-633553B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700-3AB7-4DFA-9A70-C3CA0ACC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2FF-E5E5-4C12-9D1B-9DE80F5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5AC8-C3F2-48A5-9590-FBE65D22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C31-EB51-49BC-A85B-C952086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EFF-370C-42C8-826D-7686806F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604-489E-4700-93BF-E33E398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76C4-AF04-4945-9F93-3CE3FE01BC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Heart and Circulatory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11280" y="177336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blood from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11280" y="436572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292720" y="1989000"/>
            <a:ext cx="151272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connect arteries and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132000" y="1557360"/>
            <a:ext cx="1513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ery thick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059280" y="3141720"/>
            <a:ext cx="15127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no v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093080" y="5013360"/>
            <a:ext cx="1512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llaries have valves to prevent the backflow of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3059280" y="5229360"/>
            <a:ext cx="1512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have a large space in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859280" y="378936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eries carry de-oxygenated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7164360" y="2637000"/>
            <a:ext cx="151308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s carry blood towards the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the heart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eart is a muscle that pumps blood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oxygenated blood from the lungs around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umps deoxygenated blood from the body back to the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Now look at the heart anim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oking at the heart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ight side of my heart pumps blood to my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eft side of my heart pumps blood to the rest of my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contains four valves to stop the backflow of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50:31Z</dcterms:created>
  <dc:creator>CEC</dc:creator>
  <dc:description/>
  <dc:language>en-US</dc:language>
  <cp:lastModifiedBy>LEGION2</cp:lastModifiedBy>
  <dcterms:modified xsi:type="dcterms:W3CDTF">2016-01-14T09:48:44Z</dcterms:modified>
  <cp:revision>8</cp:revision>
  <dc:subject/>
  <dc:title>The Heart and Circulatory System</dc:title>
</cp:coreProperties>
</file>